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.wmf" ContentType="image/x-wmf"/>
  <Override PartName="/ppt/media/image2.png" ContentType="image/png"/>
  <Override PartName="/ppt/media/WHOOSH.WAV" ContentType="audio/x-wav"/>
  <Override PartName="/ppt/media/LASER.WAV" ContentType="audio/x-wav"/>
  <Override PartName="/ppt/media/CAMERA.WAV" ContentType="audio/x-wav"/>
  <Override PartName="/ppt/media/image3.wmf" ContentType="image/x-wmf"/>
  <Override PartName="/ppt/media/image4.png" ContentType="image/png"/>
  <Override PartName="/ppt/media/image8.jpeg" ContentType="image/jpeg"/>
  <Override PartName="/ppt/media/TYPE.WAV" ContentType="audio/x-wav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328-7EA4-4FBE-92AC-3DDB29CF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CA4E-A9D4-4A41-A045-B51B5C238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984-3A2E-482F-834F-2226B0ACE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DA57-1FC6-4D59-AA39-91415B27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4FC-97E9-47FE-8040-D450386DA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CA4-8AE8-4FE7-8D5A-DEDA1C0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79-7C02-488F-B83A-D68D21FD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082-4FF7-4AFC-BF64-DB66B2F8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294-C259-41DD-B231-2A8E1B32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0A1-7E5D-443E-AE03-1963F48E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F0-5513-4512-ADA6-7F77876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B32-49FF-4C0C-AA41-B4BAF391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9BF-857B-419E-B457-B16DBF86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23B-7CB7-4BE1-AEC0-C804C0D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90F-01EE-4911-951D-B03F8882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577-4DBA-46AB-BA23-DF1D876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919-28BF-43A8-927D-3442B72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4C1-788E-4106-AFA6-D03588A12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 Creative Proces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Point by Catrina Leyba, and Taylor O’B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ed by Joseph E. Reed,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in the Creativ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24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paration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ubation 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umination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ification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tion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16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scious “chew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s com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, chang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>
                <a:alpha val="0"/>
              </a:srgbClr>
            </a:gs>
            <a:gs pos="100000">
              <a:srgbClr val="762f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step in the creative process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o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t rea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cre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5059440" y="1981080"/>
          <a:ext cx="2987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9440" y="1981080"/>
                    <a:ext cx="2987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CUB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9360" y="114300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ond step in the creative process is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ub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x and allow your subconscious to “sit” or “chew” on ide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5" descr=""/>
          <p:cNvPicPr/>
          <p:nvPr/>
        </p:nvPicPr>
        <p:blipFill>
          <a:blip r:embed="rId1"/>
          <a:stretch/>
        </p:blipFill>
        <p:spPr>
          <a:xfrm>
            <a:off x="685800" y="2763720"/>
            <a:ext cx="38098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TA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rd step to the creative process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llumin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“Aha!” light comes on.  Let the ideas come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4724280" y="1981080"/>
          <a:ext cx="3754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754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76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685800" y="2419200"/>
            <a:ext cx="3809880" cy="3237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th step in creative process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is the time to edit, check, tweak, mold, and fix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44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14264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fth step in the creative process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your creation to other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" descr="C:\Documents and Settings\Joseph E. Reed\Local Settings\Temporary Internet Files\Content.IE5\BLJBX7T6\MP900430556[1].jpg"/>
          <p:cNvPicPr/>
          <p:nvPr/>
        </p:nvPicPr>
        <p:blipFill>
          <a:blip r:embed="rId2"/>
          <a:stretch/>
        </p:blipFill>
        <p:spPr>
          <a:xfrm>
            <a:off x="533520" y="1447920"/>
            <a:ext cx="35049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Five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1120" y="10666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cub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llum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C:\Documents and Settings\Joseph E. Reed\Local Settings\Temporary Internet Files\Content.IE5\XPP09TAB\MP900385755[1].jpg"/>
          <p:cNvPicPr/>
          <p:nvPr/>
        </p:nvPicPr>
        <p:blipFill>
          <a:blip r:embed="rId1"/>
          <a:stretch/>
        </p:blipFill>
        <p:spPr>
          <a:xfrm>
            <a:off x="457200" y="1371600"/>
            <a:ext cx="35053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in the Creativ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24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paration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ubation 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umination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rification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tion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16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scious “chew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s com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, chang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22:12:32Z</dcterms:created>
  <dc:creator>MSbasic</dc:creator>
  <dc:description/>
  <dc:language>en-US</dc:language>
  <cp:lastModifiedBy>User</cp:lastModifiedBy>
  <dcterms:modified xsi:type="dcterms:W3CDTF">2018-04-27T15:42:14Z</dcterms:modified>
  <cp:revision>40</cp:revision>
  <dc:subject/>
  <dc:title>The Song Writing Process</dc:title>
</cp:coreProperties>
</file>